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0FF-520B-4A32-A9B9-C5E3F04A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5BA-C169-4798-8750-7B7CBC9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B86-3AE2-4190-A89E-BDE23510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CA4-54DC-40A2-86B5-40D11D69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1C42-1635-49FB-A83E-B1144639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AB68-A4F2-4FE8-9479-CB29F3F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B08A-0D0A-4DBC-BB68-D48F2BF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84A-22CF-4DB9-9D69-1DF0989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95D5-9AE7-4D0D-AF16-072DD38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102-5AA6-410F-8301-B3348CC6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3E2A-D822-4D6B-A7E0-510ACCB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59B-50EF-4F9F-B173-31E83FC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D85-DB8A-4E97-BADC-1093756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8421-2ACE-4133-BDB3-77DA6DC7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86E5-5ACC-40AD-B7DA-C09A260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FC6-FF34-417E-94AA-C7A2C507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5E17-4559-4D2B-988B-7F7E9C9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8CF-EC92-475F-9C67-2FB09166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A3B-D898-4B93-9DAD-8F02013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A59-1FF3-483A-A78B-939B75C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CBA-0672-48E4-85FB-6D8E5CB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3D1-21F5-44D2-9159-BD38480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8CA-B53A-49BD-AC24-DFD4160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7F2-858E-4A83-98D2-25BD3F4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75F-22B5-4E0D-91C2-2F9FC50BDC9D}" type="datetime">
              <a:rPr b="0" i="1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7F42-4686-4F3A-A4A7-16E0C7FA1BA5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CA3-2ABB-4C49-A77A-932DFE936FBE}" type="datetime">
              <a:rPr b="0" i="1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DC35-95E2-4CAF-8610-5481C8AE228F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 Altom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fice of Scientific and Technical Informa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fice of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artment of Energ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 June 199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600200"/>
            <a:ext cx="74674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:  Disseminating a Principle Deliverable of R&amp;D Fundi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2A4-7C0E-4B0C-B72E-050D6ACB4BC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EFCDE-F471-4205-BA23-E1E283BD4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public access 38k DOE reports; 2.5 M p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th 15k reports per yea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ourage electronic exchange; “paperless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 sites post documents on local server; provide UR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links to report via UR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ntain core functionality noted abov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C26-67AD-47C5-863E-3F6B78C594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D8871-B368-43DB-8B3A-506D631B41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t Status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ived awards/recogni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erous, including “Hammer Award” from Vice President Go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itive customer feedbac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ied performance metric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access statistics not exact scien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cument downloads metric of choi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icipated 50k in first year; achieved 70k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timated $3M annual user saving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A40-25A7-4705-A1E7-B40781225D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32BC-9D45-4AC4-8BF0-2E14D9DBB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Downloa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2680" y="1828800"/>
          <a:ext cx="74833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28800"/>
                    <a:ext cx="74833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4C1-39A1-4214-8913-A0968EABF92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FFACC-0A98-43AA-896B-E99CC71451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dress identified customer need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porate legacy materia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-1996 OSTI collec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access to existing Web collections; DOE, domestic, and internationa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otiate access to journal literatur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ourage electronic exchange efforts; standard formats, URLs,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grade hardware and software platfor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56A-D4C0-4C94-B649-67A8D89CEF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9506F-E593-4F2F-B719-2C859C396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ure Plans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component of  DOE Virtual Library of Energy Science and Technolog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SCIENCE new initiative to provide access to full text journal literatu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aboration with journal publish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old Varmus, NIH, electronic publishing operation “e-biomed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ant journal publish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C8F-A592-4E19-816C-A44D044820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92128-7BC7-42F8-BD2C-6D1584B35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vide researchers and scientific public access to intellectual results of R&amp;D funding by cabinet-level agenc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tilize proven information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erage 50+ years experience with information life-cycle manage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ng “Science to the Desktop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EBD-E165-419C-B7DE-E685E379AB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65DD8-0C4E-42CD-BE0D-F09B193F4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/GPO partnershi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ttp://www.doe.gov/bridg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duct manag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hy Chambers, 423.576.048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hy_chambers@ccmail.osti.gov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 Altom, 423.576.1170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_altom@ccmail.osti.gov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6240" y="6400800"/>
            <a:ext cx="29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:\cendi\conference\fcw\doe_bridge_altom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A5-585B-45A5-B311-7B64ADA54D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C6E0-806C-47C5-8DDB-E1A140903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&amp;D Cycl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dge” Develop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132-9821-4CC6-8871-DD96FAA805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36C57-0D40-42A2-979A-4CC6A3DE2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artment of Energy (DOE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jor R&amp;D enterpri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able good science; annual $7B R&amp;D budge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6 Nobel laureates (funded by DOE and predecessor agenci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erous R&amp;D 100 award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ly decentralized; 70+ sites, from Long Island, NY to Californi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E08-8EA6-403C-8915-02A2F5FACD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CE4C6-7DAE-4F17-AC14-924DE0F046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kground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fice of Scientific and Technical Information  (OSTI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 and promulgate policies, best business practices for scientific and technical information generated by annual $7B R&amp;D invest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 reports as contract deliverab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, process, provide access to R&amp;D results; since 194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partnership with DOE STI communit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E6E-F7EE-4E47-8ED8-80D6C4723D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09819-B2F2-4874-8166-EBA6A8BD7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&amp;D Cyc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905520" cy="457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3840" y="333684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6320" y="341316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62C-A8F1-490F-A4E2-CBEE8A81073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8B770-0D11-4534-9B4E-0EC6CB33D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STI physical repository of 1.5 million DOE reports (dating from Manhattan Project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per, deteriorating; analog medi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ing bibliographic records describing repor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itiated electronic archive proje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an paper reports; create TIFFG4 im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ild database to link TIFF, bibliographi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CE5-9EBB-4084-A85A-9C92221ECC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01958-78B8-4CCB-8C85-71BDDD969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urrent with electronic archive, monitored evolving Internet and associated information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ology, customer access needs reached “critical mass” in early 199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ined experience Web appli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ded to provide Web access to electronic archive, DOE report colle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ze standard browsers, standard commercial “tools”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64C-FB10-4DC0-9638-1551ECA422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F38ED-BA02-4FA7-AB11-C01E99FC6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ed prototype; password protect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ilt Web site; OCRed TIFF im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arch: easy and advanced (Boolean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bliographic; fielded sear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 text (OCRed text); view TIFF ima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wnload full text to deskto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ounced to DOE community Sep 97; 21k DOE reports 1.3 M pages dating from Jan 96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2A5-6CF2-472E-AB87-A2C45E4917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174AD-366B-40BB-AB93-DC785CDB73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 Information Bridg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elopment (cont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anded access to public via Government Printing Office (GPO) partnershi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ed public “view” to unclassified, unlimited distribution DOE repor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ctionality - similar to DOE prototyp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iminated passwords; improved navig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ified search, download fun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d “point and click” ic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ounced April 1998; 23k DOE reports 1.5 M pag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8AF-F67C-477E-BC45-D27D658D73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3F373-2603-4B27-946A-5E0D63054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Information International</cp:lastModifiedBy>
  <cp:lastPrinted>1999-06-11T15:27:20Z</cp:lastPrinted>
  <dcterms:modified xsi:type="dcterms:W3CDTF">1999-08-19T19:59:37Z</dcterms:modified>
  <cp:revision>28</cp:revision>
  <dc:subject/>
  <dc:title>No Slide Title</dc:title>
</cp:coreProperties>
</file>